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933-9FB1-420B-95B7-914CB617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449-F97F-4976-B77A-3A195409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937-80C0-4421-8267-8EBB9C2F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350-4D38-4239-BC7F-00FDC9F3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677-F2CF-4935-A157-987EC608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A43-015D-4F18-96D7-D15703F8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383-C156-4D32-A849-BFB6F125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4F3-1E57-4042-B803-26ED5269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859-3A38-4822-8158-7FB225FA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8E2-A78D-493D-8A22-D25773FF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B0D-5BC2-4B78-9F58-DD0BBD0D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6AD-179C-4833-A5B1-82FF88C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0C90-F8D6-4B83-A8F5-FD97D10DB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Я родом из Якутии!»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тур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Интеллектуальный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ан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saha"/>
          <p:cNvPicPr/>
          <p:nvPr/>
        </p:nvPicPr>
        <p:blipFill>
          <a:blip r:embed="rId1"/>
          <a:stretch/>
        </p:blipFill>
        <p:spPr>
          <a:xfrm>
            <a:off x="228600" y="228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Я родом из Якутии!»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 тур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Красная книга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ан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aha"/>
          <p:cNvPicPr/>
          <p:nvPr/>
        </p:nvPicPr>
        <p:blipFill>
          <a:blip r:embed="rId1"/>
          <a:stretch/>
        </p:blipFill>
        <p:spPr>
          <a:xfrm>
            <a:off x="228600" y="228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62720" y="228240"/>
            <a:ext cx="30477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Красная книг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анская но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ской 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ейская мы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Калан"/>
          <p:cNvPicPr/>
          <p:nvPr/>
        </p:nvPicPr>
        <p:blipFill>
          <a:blip r:embed="rId1"/>
          <a:stretch/>
        </p:blipFill>
        <p:spPr>
          <a:xfrm>
            <a:off x="2057400" y="228600"/>
            <a:ext cx="990720" cy="65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Выдра"/>
          <p:cNvPicPr/>
          <p:nvPr/>
        </p:nvPicPr>
        <p:blipFill>
          <a:blip r:embed="rId2"/>
          <a:stretch/>
        </p:blipFill>
        <p:spPr>
          <a:xfrm>
            <a:off x="2209680" y="762120"/>
            <a:ext cx="1067040" cy="48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Рысь"/>
          <p:cNvPicPr/>
          <p:nvPr/>
        </p:nvPicPr>
        <p:blipFill>
          <a:blip r:embed="rId3"/>
          <a:stretch/>
        </p:blipFill>
        <p:spPr>
          <a:xfrm>
            <a:off x="1905120" y="2057400"/>
            <a:ext cx="900000" cy="911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Американская норка"/>
          <p:cNvPicPr/>
          <p:nvPr/>
        </p:nvPicPr>
        <p:blipFill>
          <a:blip r:embed="rId4"/>
          <a:stretch/>
        </p:blipFill>
        <p:spPr>
          <a:xfrm>
            <a:off x="2666880" y="1447920"/>
            <a:ext cx="1527120" cy="69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колонок"/>
          <p:cNvPicPr/>
          <p:nvPr/>
        </p:nvPicPr>
        <p:blipFill>
          <a:blip r:embed="rId5"/>
          <a:stretch/>
        </p:blipFill>
        <p:spPr>
          <a:xfrm>
            <a:off x="2362320" y="2971800"/>
            <a:ext cx="1149120" cy="80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Корейская мышь"/>
          <p:cNvPicPr/>
          <p:nvPr/>
        </p:nvPicPr>
        <p:blipFill>
          <a:blip r:embed="rId6"/>
          <a:stretch/>
        </p:blipFill>
        <p:spPr>
          <a:xfrm>
            <a:off x="2286000" y="5867280"/>
            <a:ext cx="1860480" cy="58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Кабарга"/>
          <p:cNvPicPr/>
          <p:nvPr/>
        </p:nvPicPr>
        <p:blipFill>
          <a:blip r:embed="rId7"/>
          <a:stretch/>
        </p:blipFill>
        <p:spPr>
          <a:xfrm>
            <a:off x="2438280" y="4495680"/>
            <a:ext cx="952560" cy="7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Морской заяц"/>
          <p:cNvPicPr/>
          <p:nvPr/>
        </p:nvPicPr>
        <p:blipFill>
          <a:blip r:embed="rId8"/>
          <a:stretch/>
        </p:blipFill>
        <p:spPr>
          <a:xfrm>
            <a:off x="3352680" y="3809880"/>
            <a:ext cx="18241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43600" y="228240"/>
            <a:ext cx="28195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Красная кни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5029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ый 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гоми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овая ч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ый г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оклювая кай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ирис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Черный аист"/>
          <p:cNvPicPr/>
          <p:nvPr/>
        </p:nvPicPr>
        <p:blipFill>
          <a:blip r:embed="rId1"/>
          <a:stretch/>
        </p:blipFill>
        <p:spPr>
          <a:xfrm>
            <a:off x="3429000" y="0"/>
            <a:ext cx="725400" cy="101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Толстоклювая кайра"/>
          <p:cNvPicPr/>
          <p:nvPr/>
        </p:nvPicPr>
        <p:blipFill>
          <a:blip r:embed="rId2"/>
          <a:stretch/>
        </p:blipFill>
        <p:spPr>
          <a:xfrm>
            <a:off x="3581280" y="3276720"/>
            <a:ext cx="1125720" cy="145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Филин"/>
          <p:cNvPicPr/>
          <p:nvPr/>
        </p:nvPicPr>
        <p:blipFill>
          <a:blip r:embed="rId3"/>
          <a:stretch/>
        </p:blipFill>
        <p:spPr>
          <a:xfrm>
            <a:off x="1905120" y="2971800"/>
            <a:ext cx="701640" cy="820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Розовая чайка"/>
          <p:cNvPicPr/>
          <p:nvPr/>
        </p:nvPicPr>
        <p:blipFill>
          <a:blip r:embed="rId4"/>
          <a:stretch/>
        </p:blipFill>
        <p:spPr>
          <a:xfrm>
            <a:off x="3124080" y="1600200"/>
            <a:ext cx="1131840" cy="53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Пуночка"/>
          <p:cNvPicPr/>
          <p:nvPr/>
        </p:nvPicPr>
        <p:blipFill>
          <a:blip r:embed="rId5"/>
          <a:stretch/>
        </p:blipFill>
        <p:spPr>
          <a:xfrm>
            <a:off x="2209680" y="5715000"/>
            <a:ext cx="914400" cy="73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Свиристель"/>
          <p:cNvPicPr/>
          <p:nvPr/>
        </p:nvPicPr>
        <p:blipFill>
          <a:blip r:embed="rId6"/>
          <a:stretch/>
        </p:blipFill>
        <p:spPr>
          <a:xfrm>
            <a:off x="2819520" y="4572000"/>
            <a:ext cx="699840" cy="110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Белый гусь"/>
          <p:cNvPicPr/>
          <p:nvPr/>
        </p:nvPicPr>
        <p:blipFill>
          <a:blip r:embed="rId7"/>
          <a:stretch/>
        </p:blipFill>
        <p:spPr>
          <a:xfrm>
            <a:off x="2666880" y="2286000"/>
            <a:ext cx="884520" cy="824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Бургомистр"/>
          <p:cNvPicPr/>
          <p:nvPr/>
        </p:nvPicPr>
        <p:blipFill>
          <a:blip r:embed="rId8"/>
          <a:stretch/>
        </p:blipFill>
        <p:spPr>
          <a:xfrm>
            <a:off x="2590920" y="838080"/>
            <a:ext cx="9144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3760" y="228240"/>
            <a:ext cx="33526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Красная кни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51051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пена души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ец Кузнец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лия пенсильва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ел многонадрез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волга иволис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а игли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ел Турчани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ний глаз мутовч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купена душистая"/>
          <p:cNvPicPr/>
          <p:nvPr/>
        </p:nvPicPr>
        <p:blipFill>
          <a:blip r:embed="rId1"/>
          <a:stretch/>
        </p:blipFill>
        <p:spPr>
          <a:xfrm>
            <a:off x="3429000" y="457200"/>
            <a:ext cx="609480" cy="60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Вороний глаз"/>
          <p:cNvPicPr/>
          <p:nvPr/>
        </p:nvPicPr>
        <p:blipFill>
          <a:blip r:embed="rId2"/>
          <a:stretch/>
        </p:blipFill>
        <p:spPr>
          <a:xfrm>
            <a:off x="5105520" y="5715000"/>
            <a:ext cx="625320" cy="88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Саранка"/>
          <p:cNvPicPr/>
          <p:nvPr/>
        </p:nvPicPr>
        <p:blipFill>
          <a:blip r:embed="rId3"/>
          <a:stretch/>
        </p:blipFill>
        <p:spPr>
          <a:xfrm>
            <a:off x="4572000" y="2057400"/>
            <a:ext cx="914400" cy="727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"/>
          <p:cNvPicPr/>
          <p:nvPr/>
        </p:nvPicPr>
        <p:blipFill>
          <a:blip r:embed="rId4"/>
          <a:stretch/>
        </p:blipFill>
        <p:spPr>
          <a:xfrm>
            <a:off x="4191120" y="3505320"/>
            <a:ext cx="761760" cy="688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2"/>
          <p:cNvPicPr/>
          <p:nvPr/>
        </p:nvPicPr>
        <p:blipFill>
          <a:blip r:embed="rId5"/>
          <a:stretch/>
        </p:blipFill>
        <p:spPr>
          <a:xfrm>
            <a:off x="4648320" y="4648320"/>
            <a:ext cx="914400" cy="85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3"/>
          <p:cNvPicPr/>
          <p:nvPr/>
        </p:nvPicPr>
        <p:blipFill>
          <a:blip r:embed="rId6"/>
          <a:stretch/>
        </p:blipFill>
        <p:spPr>
          <a:xfrm>
            <a:off x="3962520" y="2819520"/>
            <a:ext cx="838080" cy="67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к"/>
          <p:cNvPicPr/>
          <p:nvPr/>
        </p:nvPicPr>
        <p:blipFill>
          <a:blip r:embed="rId7"/>
          <a:stretch/>
        </p:blipFill>
        <p:spPr>
          <a:xfrm>
            <a:off x="3809880" y="1143000"/>
            <a:ext cx="63504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шиповник"/>
          <p:cNvPicPr/>
          <p:nvPr/>
        </p:nvPicPr>
        <p:blipFill>
          <a:blip r:embed="rId8"/>
          <a:stretch/>
        </p:blipFill>
        <p:spPr>
          <a:xfrm>
            <a:off x="3124080" y="3962520"/>
            <a:ext cx="8384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ерите 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алл, который якуты называли «красным серебром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платина;                         в) золот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медь;                               г) свине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Где находится резиденция хранителя холода – Чысха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 Якутск                   в)  Нерюнг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 Тикси                     г)  Оймяк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Республика Саха (Якутия) образована, после принятия Декларации о государственном суверенитете. В каком году?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  в 1989 г.                    в) 1990 г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  в 1991 г.                    г) в 1992 г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Республика занимает территорию площадью: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  3000, 5 тыс. кв. км.           в) 2105,7 тыс. кв. к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  2700,9 тыс. кв.км              г) 3103, 2 тыс. кв. к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Административных районо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  32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  33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)   31.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)   36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Среди деревьев преоблад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  кедр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  сос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)   даурская лиственниц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)   пих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ая школа на  якутской земле при Якутском Спасском монастыре была откр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  в 1836 г.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  в 1865 г.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) в 1736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) в 176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. В Якутском Троицком соборе впервые  состоялось богослужение на якутском яз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  в 1858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  в 185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) в 1856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) в 185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пнейшие реки Якут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  Лена, Колыма, Ян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  Колыма, Олекма, Чар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Лена, Индигирка, Олекм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) Лена, Колыма. Индигирк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Какое место в России по длине и  по площади водосбора занимает река Лена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  2                в) 4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  3.               г) 5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. Как называется зоопарк в Якут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  «Алектит».                    в) «Терпей-Тумус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  «Орто-Дойду»              г) «Кыталык»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. Назовите государственные природные заповедники Яку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  «Олекминский» и «Усть-Вилюйски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  «Олекминский» и «Момски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«Олекминский» и «Ленские столб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) «Олекминский» и «Усть-Ленск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3. Сколько природных парков расположено на территории Яку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  2.                    в)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  3.                    г)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Я родом из Якутии!»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 тур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Найди определение»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ан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aha"/>
          <p:cNvPicPr/>
          <p:nvPr/>
        </p:nvPicPr>
        <p:blipFill>
          <a:blip r:embed="rId1"/>
          <a:stretch/>
        </p:blipFill>
        <p:spPr>
          <a:xfrm>
            <a:off x="228600" y="228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ести предложенные вам слова в разные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371600"/>
          <a:ext cx="7772400" cy="4038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_BosaNova"/>
                          <a:ea typeface="Times New Roman"/>
                        </a:rPr>
                        <a:t>Одеж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_BosaNova"/>
                          <a:ea typeface="Times New Roman"/>
                        </a:rPr>
                        <a:t>Стро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91"/>
          <p:cNvSpPr/>
          <p:nvPr/>
        </p:nvSpPr>
        <p:spPr>
          <a:xfrm>
            <a:off x="457200" y="56080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ргесе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ган,  Сон, Унты, Ётех, Торбас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он 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хай, Тордох,  Ураса,  Холомо,  Камлея, Тит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05T06:56:2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